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623119"/>
        <c:axId val="88915407"/>
      </c:barChart>
      <c:catAx>
        <c:axId val="706231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915407"/>
        <c:crosses val="autoZero"/>
        <c:auto val="1"/>
        <c:lblAlgn val="ctr"/>
        <c:lblOffset val="100"/>
        <c:noMultiLvlLbl val="0"/>
      </c:catAx>
      <c:valAx>
        <c:axId val="889154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6231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191A-A69D-4D3D-9635-193ECFB59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E5E1-2516-4671-A7FE-B2857076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B90C-0E19-445D-B45B-27E7DFDD8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9BEA-37AF-479C-9C5C-A66D1FCE3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5711-F0C1-4D40-B17C-01905432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4335-B535-40F4-BDE3-528BAF5F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AE9E-9AF2-432F-9995-8477F967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5854-AF66-4BFA-859F-297016D3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61D1-713C-46C1-87B0-37504598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975A-8332-44BA-A0A3-767C4592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C8C0-A24A-4CD2-AE1C-0ACFB08A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8DD2-B9D9-439A-9A5A-AA6C5374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C03E6-6FAD-44D1-B246-67B4CDDE07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